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F79-35A3-4BCC-B104-08DDC308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133-A83B-4A7D-9812-44CFD35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0D1-CC23-48E6-A497-66B7A991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7CA-5DAB-4C0F-A308-26CD1C71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678-5921-460D-B31B-01583A9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055-B1CC-4E80-A127-F953A5D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E52-DDBF-4014-A7DD-DF62EE06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FB6-873E-4BA2-B1FE-435BF10B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D6E-8A7F-4413-8860-5D0C978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C20-DBD6-4AB4-AC32-F941FC6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654-D397-4B6A-B028-1988681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BEF-A0DA-458E-A3AB-15E9539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485-0823-4454-9141-BDD3D810581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55560" y="4830840"/>
            <a:ext cx="706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path, in this case it will be CMAKE_INSTALL_PREFIX\&lt;di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s for system directories (C:\Program files\&lt;package&gt; or /usr/&lt;package&gt; /usr/local/&lt;package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nclude_directories(${YARP_INCLUDE_DIR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 c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2-07-18T14:07:33Z</dcterms:modified>
  <cp:revision>24</cp:revision>
  <dc:subject/>
  <dc:title>CMake</dc:title>
</cp:coreProperties>
</file>